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03C4-E389-49AD-BEB9-308959A50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E51D-9A70-4E6E-BFD4-CC143D9A4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FE77-2410-4F11-870D-5C6BAAD3C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6FA0-BCD1-4B25-85C1-7163877A0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3685-14D2-438C-9AE2-F1FA7130D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086D-A803-41C7-A354-F38056B20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8406-429E-4D36-9A4E-5C72CA57E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CD12-74C0-47B8-A773-979BE2AE3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FCF7-0CDE-47ED-A191-FECB04BA6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4388-D37E-4707-8139-E1717691A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DD65-5843-4F41-B3F1-6BE3F7664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94BF-A67C-45DF-A6F8-3CFEB8C45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5F0B6-2C01-4BA6-B205-562B60ABED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66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676520" y="1447920"/>
            <a:ext cx="5867280" cy="32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Heimliich Maneuv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king is the body’s way of trying to remove a foreign object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057400" y="762120"/>
            <a:ext cx="4952880" cy="6094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hokin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ting (especially eating and laughing at the same time, eating too fast, and failing to chew food well enough.)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cohol and drug consumption (even a small amount affects awareness.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uma to the head and face (bleeding can cause choking)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objects swallowed by children (beads, toys)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295280" y="304920"/>
            <a:ext cx="5715000" cy="129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Causes Of Chokin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oxygen the brain can begin to die within 4 to 6 minutes.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learning the Heimlich Maneuver-a simple life-saving technique-you may literally save the life of a choking victim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2133720" y="228600"/>
            <a:ext cx="464796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Lack Of OXYGE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6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erson is grabbing the throat with the hand (the universal sign for choking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notice they are gagging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hear a weak ineffective cough, noisy breathing, or high-pitched sound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erson is starting to look blu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143000" y="228600"/>
            <a:ext cx="61722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When Do I Use The Heimlich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 behind the choking person and wrap your arm around his or her wais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ce thumb side of the fist against middle of person’s abdomen just above the navel and well below the rib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s your fist into the person’s abdomen with quick, upward thrust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eat abdominal thrusts until the object is coughed up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52280" y="0"/>
            <a:ext cx="472464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How To Do Heimlich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ing the expulsion of the object, keep the victim still and get medical help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ications can arise from the incident or from the measures that were taken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52280" y="457200"/>
            <a:ext cx="38862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Always Remember....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295 E">
                                      <p:cBhvr>
                                        <p:cTn id="71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000"/>
                            </p:stCondLst>
                            <p:childTnLst>
                              <p:par>
                                <p:cTn id="7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nformation is not intended to be a substitute for professional medical advice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licensed physician should be consulted for diagnosis and treatment of all medical condi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905120" y="0"/>
            <a:ext cx="502920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Important Notic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1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7T16:00:36Z</dcterms:created>
  <dc:creator>765892</dc:creator>
  <dc:description/>
  <dc:language>en-US</dc:language>
  <cp:lastModifiedBy>765892</cp:lastModifiedBy>
  <dcterms:modified xsi:type="dcterms:W3CDTF">2008-10-28T16:02:18Z</dcterms:modified>
  <cp:revision>3</cp:revision>
  <dc:subject/>
  <dc:title>Slide 1</dc:title>
</cp:coreProperties>
</file>